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C249-43A4-4478-A04B-B498C6A5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28AB-ACCE-4AA1-94D2-91F824ED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4E5-F1D5-417D-BA75-C37D556C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425C-AF17-4A90-971F-CE668B4C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5DE-1E02-4A67-A286-8AAABB4B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F525-60F0-41D1-B49C-4DE052F6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0A37-FF33-4783-A67B-0117D323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689B-2438-40E1-B5A5-E342001F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4CA-B39A-41AF-987C-0769C3CA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7E83-BC6B-400B-ABC8-B5D4121A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DF3-896A-4973-9EE1-39E91849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E958-095B-4C86-9968-B09E072D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1A4E-E6C7-4784-AD9B-FEBD60DEE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Laf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52280" y="1295280"/>
            <a:ext cx="7162560" cy="2819520"/>
          </a:xfrm>
          <a:prstGeom prst="ellipse">
            <a:avLst/>
          </a:prstGeom>
          <a:solidFill>
            <a:srgbClr val="ffffcc">
              <a:alpha val="57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568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cked l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63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92400"/>
            <a:ext cx="12189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5588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873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787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7208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780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6352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30924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5496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406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1016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558880"/>
            <a:ext cx="1524240" cy="2210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159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Eclipse 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558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0160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47242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86400" y="6172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5715000"/>
            <a:ext cx="1371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04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267080"/>
            <a:ext cx="3200400" cy="22100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32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57150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0292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43434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41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7913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8006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2666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5029200"/>
            <a:ext cx="12952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-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0496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12193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pt 14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y: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worked for 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286000"/>
            <a:ext cx="3429000" cy="3809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724280"/>
            <a:ext cx="3429000" cy="21337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0:22:52Z</dcterms:created>
  <dc:creator>Chris Laffra</dc:creator>
  <dc:description/>
  <dc:language>en-US</dc:language>
  <cp:lastModifiedBy>Chris Laffra</cp:lastModifiedBy>
  <dcterms:modified xsi:type="dcterms:W3CDTF">2004-10-05T14:16:18Z</dcterms:modified>
  <cp:revision>1</cp:revision>
  <dc:subject/>
  <dc:title>Universal IDE Generator</dc:title>
</cp:coreProperties>
</file>